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C84-7DFC-43B4-A543-71732998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8DF-AB53-46AC-913B-A2414624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584-395B-4183-9A1E-942C44F2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2AE-D4C6-4FA1-9370-11014200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BD72-368B-4479-BF28-E298B427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CDB6-6889-4558-877F-B0FF329A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26EC-5571-4AF6-8233-D3602CB9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EDB0-E313-4442-967F-860D1E8B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3C7F-BB55-43EC-B7F9-FC23F5CA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7A3F-22F3-4574-A6CC-D28BB7A6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B747-5D7F-412E-98C2-81D4A454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EE2-2880-4BC2-8A01-506AAB19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FA32-0582-497E-AF23-EE44C4A1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232B-33B1-483D-B42A-EB465A1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3BAA-2C06-471A-9AC2-FA917EF5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AF92-4753-41F3-83C1-FA2BBF53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F087-6981-400E-B666-C77C83FF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92D-61AB-45BE-A3D0-821D69B5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4C0-CEA4-4C98-9339-57506612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E01-EBFB-4789-AFA4-BB3F7015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A0E-4760-4789-BC6A-A0140BA3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1FE-9216-41E1-9B0D-FCAF2D57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9F7-51B7-4A01-8E8C-DE3398C9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CAC-64E0-420F-A70D-8607281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0983-5B90-4450-B2A5-E5C42A3977AA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27EF-B343-43A3-86E9-E47BCCBE5049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F5F0-17D2-47F8-8A2D-C6CE7FD80670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E543-2EE9-4D68-A8B0-9EEF01D6F71D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752480" y="1828800"/>
            <a:ext cx="5943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8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 Ming’s Summer Holida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图片 5132" descr="0610070061"/>
          <p:cNvPicPr/>
          <p:nvPr/>
        </p:nvPicPr>
        <p:blipFill>
          <a:blip r:embed="rId1"/>
          <a:srcRect l="0" t="9553" r="0" b="12388"/>
          <a:stretch/>
        </p:blipFill>
        <p:spPr>
          <a:xfrm>
            <a:off x="4343400" y="3519360"/>
            <a:ext cx="260352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581280" y="762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是一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元的票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s is a ___________ ticke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能把你的经历和我分享一下吗？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 you _______ your ___________ ______ m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次考试我考得不错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______ ______ in the exa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文本框 37894"/>
          <p:cNvSpPr/>
          <p:nvPr/>
        </p:nvSpPr>
        <p:spPr>
          <a:xfrm>
            <a:off x="25909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rty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ua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文本框 37899"/>
          <p:cNvSpPr/>
          <p:nvPr/>
        </p:nvSpPr>
        <p:spPr>
          <a:xfrm>
            <a:off x="2738520" y="3733920"/>
            <a:ext cx="19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a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文本框 37900"/>
          <p:cNvSpPr/>
          <p:nvPr/>
        </p:nvSpPr>
        <p:spPr>
          <a:xfrm>
            <a:off x="1809720" y="4854600"/>
            <a:ext cx="7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文本框 37901"/>
          <p:cNvSpPr/>
          <p:nvPr/>
        </p:nvSpPr>
        <p:spPr>
          <a:xfrm>
            <a:off x="2711520" y="48546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矩形 37907"/>
          <p:cNvSpPr/>
          <p:nvPr/>
        </p:nvSpPr>
        <p:spPr>
          <a:xfrm>
            <a:off x="4475160" y="373392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erienc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矩形 37916"/>
          <p:cNvSpPr/>
          <p:nvPr/>
        </p:nvSpPr>
        <p:spPr>
          <a:xfrm>
            <a:off x="6248520" y="3733920"/>
            <a:ext cx="14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1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23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21" name="文本框 33897"/>
          <p:cNvSpPr/>
          <p:nvPr/>
        </p:nvSpPr>
        <p:spPr>
          <a:xfrm>
            <a:off x="838080" y="2698920"/>
            <a:ext cx="75438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思考一下你理想中的暑假会怎么度过呢，你会去哪，做什么，和谁去？写出来和大家分享一下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66567"/>
          <p:cNvSpPr/>
          <p:nvPr/>
        </p:nvSpPr>
        <p:spPr>
          <a:xfrm>
            <a:off x="603360" y="2711520"/>
            <a:ext cx="7931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Unpleasant advice is a good medicine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忠言逆耳利于行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3" name="图片 6656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6657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know the life in the countrysid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will you do ther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44049"/>
          <p:cNvSpPr/>
          <p:nvPr/>
        </p:nvSpPr>
        <p:spPr>
          <a:xfrm>
            <a:off x="3657600" y="5456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mme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m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图片 44059" descr="u=4000756087,769465380&amp;fm=23&amp;gp=0"/>
          <p:cNvPicPr/>
          <p:nvPr/>
        </p:nvPicPr>
        <p:blipFill>
          <a:blip r:embed="rId1"/>
          <a:stretch/>
        </p:blipFill>
        <p:spPr>
          <a:xfrm>
            <a:off x="1685880" y="1828800"/>
            <a:ext cx="55530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48131"/>
          <p:cNvSpPr/>
          <p:nvPr/>
        </p:nvSpPr>
        <p:spPr>
          <a:xfrm>
            <a:off x="2666880" y="5380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arm work in the countrysid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图片 48146" descr="u=102861676,3701724688&amp;fm=23&amp;gp=0"/>
          <p:cNvPicPr/>
          <p:nvPr/>
        </p:nvPicPr>
        <p:blipFill>
          <a:blip r:embed="rId1"/>
          <a:srcRect l="0" t="0" r="0" b="14546"/>
          <a:stretch/>
        </p:blipFill>
        <p:spPr>
          <a:xfrm>
            <a:off x="2286000" y="121932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53251"/>
          <p:cNvSpPr/>
          <p:nvPr/>
        </p:nvSpPr>
        <p:spPr>
          <a:xfrm>
            <a:off x="3048120" y="5486400"/>
            <a:ext cx="39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alk in the fores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图片 53255" descr="u=1062136268,1962366394&amp;fm=23&amp;gp=0"/>
          <p:cNvPicPr/>
          <p:nvPr/>
        </p:nvPicPr>
        <p:blipFill>
          <a:blip r:embed="rId1"/>
          <a:stretch/>
        </p:blipFill>
        <p:spPr>
          <a:xfrm>
            <a:off x="1295280" y="1143000"/>
            <a:ext cx="601992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4337"/>
          <p:cNvSpPr/>
          <p:nvPr/>
        </p:nvSpPr>
        <p:spPr>
          <a:xfrm>
            <a:off x="1066680" y="90504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矩形 14348"/>
          <p:cNvSpPr/>
          <p:nvPr/>
        </p:nvSpPr>
        <p:spPr>
          <a:xfrm>
            <a:off x="457200" y="17431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1. Li Ming did not do well in his exam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 2. Li Ming is going to visit his grandparents in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he countrysid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3. Jenny is going to stay at Li Ming’s home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during the summer holi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文本框 14349"/>
          <p:cNvSpPr/>
          <p:nvPr/>
        </p:nvSpPr>
        <p:spPr>
          <a:xfrm>
            <a:off x="1560600" y="194148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文本框 14351"/>
          <p:cNvSpPr/>
          <p:nvPr/>
        </p:nvSpPr>
        <p:spPr>
          <a:xfrm>
            <a:off x="1560600" y="410544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文本框 14352"/>
          <p:cNvSpPr/>
          <p:nvPr/>
        </p:nvSpPr>
        <p:spPr>
          <a:xfrm>
            <a:off x="1560600" y="265752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50276"/>
          <p:cNvSpPr/>
          <p:nvPr/>
        </p:nvSpPr>
        <p:spPr>
          <a:xfrm>
            <a:off x="762120" y="1371600"/>
            <a:ext cx="80769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at did Li Ming’s school organiz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o will live in Li Ming’s hom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7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at is Li Ming going to do about his experience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文本框 50277"/>
          <p:cNvSpPr/>
          <p:nvPr/>
        </p:nvSpPr>
        <p:spPr>
          <a:xfrm>
            <a:off x="1219320" y="685800"/>
            <a:ext cx="647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矩形 50278"/>
          <p:cNvSpPr/>
          <p:nvPr/>
        </p:nvSpPr>
        <p:spPr>
          <a:xfrm>
            <a:off x="1676520" y="21337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 Ming’s school organized a summer camp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矩形 50279"/>
          <p:cNvSpPr/>
          <p:nvPr/>
        </p:nvSpPr>
        <p:spPr>
          <a:xfrm>
            <a:off x="1676520" y="3429000"/>
            <a:ext cx="41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kid from the countrysid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50280"/>
          <p:cNvSpPr/>
          <p:nvPr/>
        </p:nvSpPr>
        <p:spPr>
          <a:xfrm>
            <a:off x="1600200" y="4648320"/>
            <a:ext cx="46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is going to write them dow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15361"/>
          <p:cNvSpPr/>
          <p:nvPr/>
        </p:nvSpPr>
        <p:spPr>
          <a:xfrm>
            <a:off x="838080" y="1600200"/>
            <a:ext cx="7772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ur school organized a special two-week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mmer camp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学校组织了一次特别的为期两周的夏令营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文本框 15362"/>
          <p:cNvSpPr/>
          <p:nvPr/>
        </p:nvSpPr>
        <p:spPr>
          <a:xfrm>
            <a:off x="1066680" y="3129120"/>
            <a:ext cx="746784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wo-week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周的，形容词。这种结构通常是：数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连字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单数名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will have a three-day holi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将有一个三天的假期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8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6392"/>
          <p:cNvSpPr/>
          <p:nvPr/>
        </p:nvSpPr>
        <p:spPr>
          <a:xfrm>
            <a:off x="639720" y="911880"/>
            <a:ext cx="75898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am going to write down all of my experiences and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are them with you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打算写下我所有的经历，然后和你分享它们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矩形 16395"/>
          <p:cNvSpPr/>
          <p:nvPr/>
        </p:nvSpPr>
        <p:spPr>
          <a:xfrm>
            <a:off x="838080" y="2900520"/>
            <a:ext cx="754380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perienc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作“经历”讲为可数名词，作“经验”讲为不可数名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are sth. with sb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某人分享某事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want to share the good news with you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想和你分享这个好消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49:15Z</dcterms:created>
  <dc:creator/>
  <dc:description/>
  <dc:language>en-US</dc:language>
  <cp:lastModifiedBy>Administrator</cp:lastModifiedBy>
  <dcterms:modified xsi:type="dcterms:W3CDTF">2019-01-02T01:50:02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